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2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1.jpeg" ContentType="image/jpeg"/>
  <Override PartName="/ppt/media/image7.png" ContentType="image/png"/>
  <Override PartName="/ppt/media/image5.png" ContentType="image/pn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9619-5C88-47F2-9FF9-204951899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C4B3-7E64-43F8-B2BA-579D44284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2237-BFC9-4B2A-ABDF-BAA532097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B92C-11E0-4322-8504-AB5EE0906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64DA3-9E71-4D44-BA22-9F10B7D9A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12E78-713A-4C4C-AD19-1786BFEDA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EE633-708F-4D6C-BE04-B38B861B8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EF7B4-ABF0-4DA3-9096-1A68A125C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61951-51DF-4C17-9ACF-C9878AD9B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DBD7A-9D06-4A89-8E8A-7EECBE0BB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E0F11-79A7-4F7B-830D-EBDEEB1CC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B4E1-C0BD-47F1-B3A7-EEB44CC62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E9C57-765A-458D-B10E-38695090D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A1FF3-A5A8-475D-8296-DD866D2C9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AD024-AC7A-41D1-B021-A60C99E95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1342A-14A0-43AD-81EA-E7174A5F4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349E4-B76F-4281-91F6-15FBD1F44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1D4222-C714-4CCC-AD4B-C02E6AFD1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CB6D79-3752-4021-8724-E067FE814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6D2EB8-FB0B-4500-86B2-CB84545AD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A60A60-DD1C-4D9F-99AD-4C6CEE666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244C87-990F-48E3-883B-EF1749758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BF06-9BCF-49A6-AA9E-57C829B78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0C0D9E-D278-4FC0-82C9-29AC8136E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C899F1-2325-4F17-9676-7BE464B9B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79726E-AF0D-44EC-9B38-03605177F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B0DB0E-F6F8-4EC1-BF51-8FCED9FF6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4870E8-22AE-47E6-A0D2-4CC6CE150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7C365E-3FB7-4776-AD06-ED1BDB054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95E12E-E4B7-4CAC-8DDC-450362B6C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CB0415-0772-4108-A867-EFE1EA3FF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07E6F7-32BE-42D9-AAF9-572B9A8BC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E1AA01-B45B-4976-AF30-A0F9CADC4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0C76-CA3E-4A3A-8127-CAE27F21F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02C91B-8C80-476F-8596-388C615B4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824B1F-D3A8-4BF7-89D5-FC012018A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08CDD4-84E9-4300-ADA5-95B70DD35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E8F059-2E86-4B15-8DDA-7E5B23916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1625CF-F4F2-4BB7-88F8-76EF67132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D5CF2F-D8B6-4204-9B86-B18A1D12D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E8B75D-44E2-44CE-AA0F-36E193831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FCA7F0-ECA8-4ADA-A42C-8529E7327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C314DC-8E1A-4841-8E03-63F6CA183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DD1285-F7E9-4052-81BA-16D932500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B2F7-0E2D-441C-B7C4-A7D66DC69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55423F-1B1B-4987-B482-FCC3EAD12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206F69-704B-4EE2-A09E-960CB7E09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26F00A-BB17-4E25-95E0-D01C9A01C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3F6EC0-2CC8-4217-A076-2EBDB7B3B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C945AE-F304-4594-91D7-69C600111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11066C-D501-4332-AE5F-A7C9F0004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BEC867-AC5A-423E-8C00-C3A429867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7F4362-794E-43C6-BCF2-23ED3D123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1884CA-959A-4FEA-B5F1-9FD670CEB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DC21B5-C010-4BBA-B46B-A29E8440C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51C2-C8C3-4F11-943C-292006EAC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E1B7AC-BD50-4FF2-9448-EB8DAF6CF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6697-C072-4C45-9607-5CF7DE160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4D79-6391-4A71-B71B-06A785CBA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A2AC-ABB8-498C-9ACB-462F8DEF5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à coins arrondis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BB8DA-73D7-40ED-80F8-E609D16E9B2E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à coins arrondis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EBE66-7A09-4D4E-97E6-B70D212DFAC0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Rectangle à coins arrondis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Rectangle à coins arrondis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8E9FA-F5B0-46ED-811F-B21E9FCCD553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à coins arrondis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à coins arrondis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FF92B-107F-4057-9562-CBFF50619A97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à coins arrondis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78FC7-8DB0-4362-8438-537A37CFC416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394920" y="3644640"/>
            <a:ext cx="84978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500" spc="-1" strike="noStrike">
                <a:solidFill>
                  <a:srgbClr val="0070c0"/>
                </a:solidFill>
                <a:latin typeface="Comic Sans MS"/>
                <a:ea typeface="Arial"/>
              </a:rPr>
              <a:t>TONNEAU DE</a:t>
            </a:r>
            <a:endParaRPr b="0" lang="en-US" sz="35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500" spc="-1" strike="noStrike">
                <a:solidFill>
                  <a:srgbClr val="0070c0"/>
                </a:solidFill>
                <a:latin typeface="Comic Sans MS"/>
                <a:ea typeface="Arial"/>
              </a:rPr>
              <a:t>CONTROLE QUALITE</a:t>
            </a:r>
            <a:endParaRPr b="0" lang="en-US" sz="35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468360" y="148392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Franklin Gothic Book"/>
              </a:rPr>
              <a:t>DOSSIER TECHNIQU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0" name="Flèche droite rayée 3"/>
          <p:cNvSpPr/>
          <p:nvPr/>
        </p:nvSpPr>
        <p:spPr>
          <a:xfrm>
            <a:off x="8286840" y="6357960"/>
            <a:ext cx="571320" cy="285840"/>
          </a:xfrm>
          <a:custGeom>
            <a:avLst/>
            <a:gdLst>
              <a:gd name="textAreaLeft" fmla="*/ 44640 w 571320"/>
              <a:gd name="textAreaRight" fmla="*/ 500040 w 571320"/>
              <a:gd name="textAreaTop" fmla="*/ 71280 h 285840"/>
              <a:gd name="textAreaBottom" fmla="*/ 214560 h 285840"/>
            </a:gdLst>
            <a:ahLst/>
            <a:rect l="textAreaLeft" t="textAreaTop" r="textAreaRight" b="textAreaBottom"/>
            <a:pathLst>
              <a:path w="571500" h="285750">
                <a:moveTo>
                  <a:pt x="0" y="71438"/>
                </a:moveTo>
                <a:lnTo>
                  <a:pt x="8930" y="71438"/>
                </a:lnTo>
                <a:lnTo>
                  <a:pt x="8930" y="214313"/>
                </a:lnTo>
                <a:lnTo>
                  <a:pt x="0" y="214313"/>
                </a:lnTo>
                <a:close/>
                <a:moveTo>
                  <a:pt x="17859" y="71438"/>
                </a:moveTo>
                <a:lnTo>
                  <a:pt x="35719" y="71438"/>
                </a:lnTo>
                <a:lnTo>
                  <a:pt x="35719" y="214313"/>
                </a:lnTo>
                <a:lnTo>
                  <a:pt x="17859" y="214313"/>
                </a:lnTo>
                <a:close/>
                <a:moveTo>
                  <a:pt x="44648" y="71438"/>
                </a:moveTo>
                <a:lnTo>
                  <a:pt x="428625" y="71438"/>
                </a:lnTo>
                <a:lnTo>
                  <a:pt x="428625" y="0"/>
                </a:lnTo>
                <a:lnTo>
                  <a:pt x="571500" y="142875"/>
                </a:lnTo>
                <a:lnTo>
                  <a:pt x="428625" y="285750"/>
                </a:lnTo>
                <a:lnTo>
                  <a:pt x="428625" y="214313"/>
                </a:lnTo>
                <a:lnTo>
                  <a:pt x="44648" y="214313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855d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6"/>
          <p:cNvSpPr/>
          <p:nvPr/>
        </p:nvSpPr>
        <p:spPr>
          <a:xfrm>
            <a:off x="611280" y="260280"/>
            <a:ext cx="8137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BACCALAURÉAT PROFESSION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Étude et Définition de Produits Industri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Épreuve E3 - Unité : U 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*****************************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BREVET D’ÉTUDES PROFESSIONNEL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Représentation Informatisée de Produits Industri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Épreuve EP2 - Unité : UP 2 - 2ème Sit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Élaboration de documents techni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-360" y="1295280"/>
            <a:ext cx="4048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Les bouchons métallisés à contrôler sont placés dans le tonneau avec des objets afin de  simuler les frottements. Ils sont soumis à 10 minutes de rotation à raison de 12 trs/min (+/- 1tr)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Le contrôle de la tenue de la métallisation se fait visuellement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5" name="Rectangle 4"/>
          <p:cNvSpPr/>
          <p:nvPr/>
        </p:nvSpPr>
        <p:spPr>
          <a:xfrm>
            <a:off x="0" y="142920"/>
            <a:ext cx="2786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70c0"/>
                </a:solidFill>
                <a:latin typeface="Comic Sans MS"/>
                <a:ea typeface="Arial"/>
              </a:rPr>
              <a:t>TONNEAU DE CONTROLE QUALIT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3"/>
          <p:cNvGrpSpPr/>
          <p:nvPr/>
        </p:nvGrpSpPr>
        <p:grpSpPr>
          <a:xfrm>
            <a:off x="4148280" y="934920"/>
            <a:ext cx="4824360" cy="4966920"/>
            <a:chOff x="4148280" y="934920"/>
            <a:chExt cx="4824360" cy="4966920"/>
          </a:xfrm>
        </p:grpSpPr>
        <p:pic>
          <p:nvPicPr>
            <p:cNvPr id="297" name="Picture 8" descr="Tonneau"/>
            <p:cNvPicPr/>
            <p:nvPr/>
          </p:nvPicPr>
          <p:blipFill>
            <a:blip r:embed="rId1"/>
            <a:stretch/>
          </p:blipFill>
          <p:spPr>
            <a:xfrm>
              <a:off x="5085000" y="934920"/>
              <a:ext cx="3092400" cy="268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8" name="Picture 9" descr="Bouchons métallisés"/>
            <p:cNvPicPr/>
            <p:nvPr/>
          </p:nvPicPr>
          <p:blipFill>
            <a:blip r:embed="rId2"/>
            <a:stretch/>
          </p:blipFill>
          <p:spPr>
            <a:xfrm>
              <a:off x="4148280" y="4174920"/>
              <a:ext cx="2089080" cy="140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9" name="Picture 10" descr="Clés"/>
            <p:cNvPicPr/>
            <p:nvPr/>
          </p:nvPicPr>
          <p:blipFill>
            <a:blip r:embed="rId3"/>
            <a:stretch/>
          </p:blipFill>
          <p:spPr>
            <a:xfrm>
              <a:off x="6380280" y="4030200"/>
              <a:ext cx="107820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0" name="Rectangle 12"/>
            <p:cNvSpPr/>
            <p:nvPr/>
          </p:nvSpPr>
          <p:spPr>
            <a:xfrm>
              <a:off x="6309000" y="3958920"/>
              <a:ext cx="2663640" cy="1942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1" name="Picture 13" descr="Monnaie"/>
            <p:cNvPicPr/>
            <p:nvPr/>
          </p:nvPicPr>
          <p:blipFill>
            <a:blip r:embed="rId4"/>
            <a:stretch/>
          </p:blipFill>
          <p:spPr>
            <a:xfrm>
              <a:off x="6885360" y="4822560"/>
              <a:ext cx="1439640" cy="101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2" name="Picture 14" descr="Stylo"/>
            <p:cNvPicPr/>
            <p:nvPr/>
          </p:nvPicPr>
          <p:blipFill>
            <a:blip r:embed="rId5"/>
            <a:stretch/>
          </p:blipFill>
          <p:spPr>
            <a:xfrm>
              <a:off x="7964640" y="3958920"/>
              <a:ext cx="971640" cy="94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3" name="Line 16"/>
            <p:cNvSpPr/>
            <p:nvPr/>
          </p:nvSpPr>
          <p:spPr>
            <a:xfrm flipV="1">
              <a:off x="5156280" y="2733120"/>
              <a:ext cx="1656000" cy="144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Line 17"/>
            <p:cNvSpPr/>
            <p:nvPr/>
          </p:nvSpPr>
          <p:spPr>
            <a:xfrm flipH="1" flipV="1">
              <a:off x="7172280" y="2950560"/>
              <a:ext cx="431640" cy="100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250920" y="285480"/>
            <a:ext cx="857880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70c0"/>
                </a:solidFill>
                <a:latin typeface="Comic Sans MS"/>
                <a:ea typeface="Arial"/>
              </a:rPr>
              <a:t>TONNEAU DE CONTROLE QUALITE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ctr"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ctr"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660066"/>
                </a:solidFill>
                <a:latin typeface="Comic Sans MS"/>
                <a:ea typeface="Arial"/>
              </a:rPr>
              <a:t>1 – </a:t>
            </a:r>
            <a:r>
              <a:rPr b="1" lang="fr-FR" sz="2000" spc="-1" strike="noStrike" u="sng">
                <a:solidFill>
                  <a:srgbClr val="660066"/>
                </a:solidFill>
                <a:uFillTx/>
                <a:latin typeface="Comic Sans MS"/>
                <a:ea typeface="Arial"/>
              </a:rPr>
              <a:t>PRESENTATION DU PRODUIT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ctr"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La société DMA DILLULO est spécialisée dans  la conception de machines spéciales pour l’industrie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Elle a développé,  spécifiquement pour l’industrie cosmétique  de luxe, une machine permettant de contrôler la tenue de la métallisation sur les bouchons de mascara, de vernis à ongles…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3" name="Flèche droite rayée 4"/>
          <p:cNvSpPr/>
          <p:nvPr/>
        </p:nvSpPr>
        <p:spPr>
          <a:xfrm>
            <a:off x="8286840" y="6357960"/>
            <a:ext cx="571320" cy="285840"/>
          </a:xfrm>
          <a:custGeom>
            <a:avLst/>
            <a:gdLst>
              <a:gd name="textAreaLeft" fmla="*/ 44640 w 571320"/>
              <a:gd name="textAreaRight" fmla="*/ 500040 w 571320"/>
              <a:gd name="textAreaTop" fmla="*/ 71280 h 285840"/>
              <a:gd name="textAreaBottom" fmla="*/ 214560 h 285840"/>
            </a:gdLst>
            <a:ahLst/>
            <a:rect l="textAreaLeft" t="textAreaTop" r="textAreaRight" b="textAreaBottom"/>
            <a:pathLst>
              <a:path w="571500" h="285750">
                <a:moveTo>
                  <a:pt x="0" y="71438"/>
                </a:moveTo>
                <a:lnTo>
                  <a:pt x="8930" y="71438"/>
                </a:lnTo>
                <a:lnTo>
                  <a:pt x="8930" y="214313"/>
                </a:lnTo>
                <a:lnTo>
                  <a:pt x="0" y="214313"/>
                </a:lnTo>
                <a:close/>
                <a:moveTo>
                  <a:pt x="17859" y="71438"/>
                </a:moveTo>
                <a:lnTo>
                  <a:pt x="35719" y="71438"/>
                </a:lnTo>
                <a:lnTo>
                  <a:pt x="35719" y="214313"/>
                </a:lnTo>
                <a:lnTo>
                  <a:pt x="17859" y="214313"/>
                </a:lnTo>
                <a:close/>
                <a:moveTo>
                  <a:pt x="44648" y="71438"/>
                </a:moveTo>
                <a:lnTo>
                  <a:pt x="428625" y="71438"/>
                </a:lnTo>
                <a:lnTo>
                  <a:pt x="428625" y="0"/>
                </a:lnTo>
                <a:lnTo>
                  <a:pt x="571500" y="142875"/>
                </a:lnTo>
                <a:lnTo>
                  <a:pt x="428625" y="285750"/>
                </a:lnTo>
                <a:lnTo>
                  <a:pt x="428625" y="214313"/>
                </a:lnTo>
                <a:lnTo>
                  <a:pt x="44648" y="214313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855d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9" descr="Tonneau_Controle"/>
          <p:cNvPicPr/>
          <p:nvPr/>
        </p:nvPicPr>
        <p:blipFill>
          <a:blip r:embed="rId1"/>
          <a:stretch/>
        </p:blipFill>
        <p:spPr>
          <a:xfrm>
            <a:off x="2411280" y="3500280"/>
            <a:ext cx="4130640" cy="2921040"/>
          </a:xfrm>
          <a:prstGeom prst="rect">
            <a:avLst/>
          </a:prstGeom>
          <a:ln w="9360">
            <a:solidFill>
              <a:srgbClr val="00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179280" y="692280"/>
            <a:ext cx="834408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Les grandes marques de cosmétiques de luxe, toujours en quête de nouveaux marchés et de nouveaux clients, </a:t>
            </a:r>
            <a:r>
              <a:rPr b="0" lang="fr-FR" sz="2000" spc="-1" strike="noStrike">
                <a:solidFill>
                  <a:srgbClr val="0070c0"/>
                </a:solidFill>
                <a:latin typeface="Arial"/>
                <a:ea typeface="Arial"/>
              </a:rPr>
              <a:t>ont décidé de faire évoluer l’aspect visuel de leurs produits en leur appliquant une métallisation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Cette technique appliquée sur matières plastiques permet d’allier les performances :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36" name="Picture 2" descr="Pot bouchons métallisés3"/>
          <p:cNvPicPr/>
          <p:nvPr/>
        </p:nvPicPr>
        <p:blipFill>
          <a:blip r:embed="rId1"/>
          <a:stretch/>
        </p:blipFill>
        <p:spPr>
          <a:xfrm>
            <a:off x="6224760" y="2852640"/>
            <a:ext cx="2442960" cy="16765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3" descr="Pot bouchons métallisés1"/>
          <p:cNvPicPr/>
          <p:nvPr/>
        </p:nvPicPr>
        <p:blipFill>
          <a:blip r:embed="rId2"/>
          <a:stretch/>
        </p:blipFill>
        <p:spPr>
          <a:xfrm>
            <a:off x="6229440" y="4578480"/>
            <a:ext cx="2384280" cy="165708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6"/>
          <p:cNvSpPr/>
          <p:nvPr/>
        </p:nvSpPr>
        <p:spPr>
          <a:xfrm>
            <a:off x="4716360" y="4076640"/>
            <a:ext cx="15717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Exemples de produits cosmétiques métallisés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7"/>
          <p:cNvSpPr/>
          <p:nvPr/>
        </p:nvSpPr>
        <p:spPr>
          <a:xfrm>
            <a:off x="0" y="142920"/>
            <a:ext cx="2786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70c0"/>
                </a:solidFill>
                <a:latin typeface="Comic Sans MS"/>
                <a:ea typeface="Arial"/>
              </a:rPr>
              <a:t>TONNEAU DE CONTROLE QUALIT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Flèche droite rayée 8"/>
          <p:cNvSpPr/>
          <p:nvPr/>
        </p:nvSpPr>
        <p:spPr>
          <a:xfrm>
            <a:off x="8286840" y="6357960"/>
            <a:ext cx="571320" cy="285840"/>
          </a:xfrm>
          <a:custGeom>
            <a:avLst/>
            <a:gdLst>
              <a:gd name="textAreaLeft" fmla="*/ 44640 w 571320"/>
              <a:gd name="textAreaRight" fmla="*/ 500040 w 571320"/>
              <a:gd name="textAreaTop" fmla="*/ 71280 h 285840"/>
              <a:gd name="textAreaBottom" fmla="*/ 214560 h 285840"/>
            </a:gdLst>
            <a:ahLst/>
            <a:rect l="textAreaLeft" t="textAreaTop" r="textAreaRight" b="textAreaBottom"/>
            <a:pathLst>
              <a:path w="571500" h="285750">
                <a:moveTo>
                  <a:pt x="0" y="71438"/>
                </a:moveTo>
                <a:lnTo>
                  <a:pt x="8930" y="71438"/>
                </a:lnTo>
                <a:lnTo>
                  <a:pt x="8930" y="214313"/>
                </a:lnTo>
                <a:lnTo>
                  <a:pt x="0" y="214313"/>
                </a:lnTo>
                <a:close/>
                <a:moveTo>
                  <a:pt x="17859" y="71438"/>
                </a:moveTo>
                <a:lnTo>
                  <a:pt x="35719" y="71438"/>
                </a:lnTo>
                <a:lnTo>
                  <a:pt x="35719" y="214313"/>
                </a:lnTo>
                <a:lnTo>
                  <a:pt x="17859" y="214313"/>
                </a:lnTo>
                <a:close/>
                <a:moveTo>
                  <a:pt x="44648" y="71438"/>
                </a:moveTo>
                <a:lnTo>
                  <a:pt x="428625" y="71438"/>
                </a:lnTo>
                <a:lnTo>
                  <a:pt x="428625" y="0"/>
                </a:lnTo>
                <a:lnTo>
                  <a:pt x="571500" y="142875"/>
                </a:lnTo>
                <a:lnTo>
                  <a:pt x="428625" y="285750"/>
                </a:lnTo>
                <a:lnTo>
                  <a:pt x="428625" y="214313"/>
                </a:lnTo>
                <a:lnTo>
                  <a:pt x="44648" y="214313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855d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1"/>
          <p:cNvSpPr/>
          <p:nvPr/>
        </p:nvSpPr>
        <p:spPr>
          <a:xfrm>
            <a:off x="539640" y="2852640"/>
            <a:ext cx="3888000" cy="27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e légèreté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e flexio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e prix d’un polymèr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vec les fonctions décoratives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e dureté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de résistance à la rayure d’un revêtement métalliqu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0" y="142920"/>
            <a:ext cx="2786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70c0"/>
                </a:solidFill>
                <a:latin typeface="Comic Sans MS"/>
                <a:ea typeface="Arial"/>
              </a:rPr>
              <a:t>TONNEAU DE CONTROLE QUALIT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Flèche droite rayée 5"/>
          <p:cNvSpPr/>
          <p:nvPr/>
        </p:nvSpPr>
        <p:spPr>
          <a:xfrm>
            <a:off x="8286840" y="6357960"/>
            <a:ext cx="571320" cy="285840"/>
          </a:xfrm>
          <a:custGeom>
            <a:avLst/>
            <a:gdLst>
              <a:gd name="textAreaLeft" fmla="*/ 44640 w 571320"/>
              <a:gd name="textAreaRight" fmla="*/ 500040 w 571320"/>
              <a:gd name="textAreaTop" fmla="*/ 71280 h 285840"/>
              <a:gd name="textAreaBottom" fmla="*/ 214560 h 285840"/>
            </a:gdLst>
            <a:ahLst/>
            <a:rect l="textAreaLeft" t="textAreaTop" r="textAreaRight" b="textAreaBottom"/>
            <a:pathLst>
              <a:path w="571500" h="285750">
                <a:moveTo>
                  <a:pt x="0" y="71438"/>
                </a:moveTo>
                <a:lnTo>
                  <a:pt x="8930" y="71438"/>
                </a:lnTo>
                <a:lnTo>
                  <a:pt x="8930" y="214313"/>
                </a:lnTo>
                <a:lnTo>
                  <a:pt x="0" y="214313"/>
                </a:lnTo>
                <a:close/>
                <a:moveTo>
                  <a:pt x="17859" y="71438"/>
                </a:moveTo>
                <a:lnTo>
                  <a:pt x="35719" y="71438"/>
                </a:lnTo>
                <a:lnTo>
                  <a:pt x="35719" y="214313"/>
                </a:lnTo>
                <a:lnTo>
                  <a:pt x="17859" y="214313"/>
                </a:lnTo>
                <a:close/>
                <a:moveTo>
                  <a:pt x="44648" y="71438"/>
                </a:moveTo>
                <a:lnTo>
                  <a:pt x="428625" y="71438"/>
                </a:lnTo>
                <a:lnTo>
                  <a:pt x="428625" y="0"/>
                </a:lnTo>
                <a:lnTo>
                  <a:pt x="571500" y="142875"/>
                </a:lnTo>
                <a:lnTo>
                  <a:pt x="428625" y="285750"/>
                </a:lnTo>
                <a:lnTo>
                  <a:pt x="428625" y="214313"/>
                </a:lnTo>
                <a:lnTo>
                  <a:pt x="44648" y="214313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855d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5" descr="Métallisation_bouchons"/>
          <p:cNvPicPr/>
          <p:nvPr/>
        </p:nvPicPr>
        <p:blipFill>
          <a:blip r:embed="rId1"/>
          <a:stretch/>
        </p:blipFill>
        <p:spPr>
          <a:xfrm>
            <a:off x="755640" y="907920"/>
            <a:ext cx="3286080" cy="1833840"/>
          </a:xfrm>
          <a:prstGeom prst="rect">
            <a:avLst/>
          </a:prstGeom>
          <a:ln w="0">
            <a:noFill/>
          </a:ln>
        </p:spPr>
      </p:pic>
      <p:sp>
        <p:nvSpPr>
          <p:cNvPr id="245" name="AutoShape 6"/>
          <p:cNvSpPr/>
          <p:nvPr/>
        </p:nvSpPr>
        <p:spPr>
          <a:xfrm>
            <a:off x="4599000" y="1303200"/>
            <a:ext cx="237492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7634"/>
              <a:gd name="adj5" fmla="val 28648"/>
              <a:gd name="adj6" fmla="val -72194"/>
            </a:avLst>
          </a:prstGeom>
          <a:noFill/>
          <a:ln w="2844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Bouchons en phase de métallis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7"/>
          <p:cNvSpPr/>
          <p:nvPr/>
        </p:nvSpPr>
        <p:spPr>
          <a:xfrm flipV="1">
            <a:off x="2652840" y="1412640"/>
            <a:ext cx="1854000" cy="7426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METALLISATION.wmv" descr=""/>
          <p:cNvPicPr/>
          <p:nvPr/>
        </p:nvPicPr>
        <p:blipFill>
          <a:blip r:embed="rId2"/>
          <a:stretch/>
        </p:blipFill>
        <p:spPr>
          <a:xfrm>
            <a:off x="2152800" y="3705120"/>
            <a:ext cx="45720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7800" fill="hold"/>
                                        <p:tgtEl>
                                          <p:spTgt spid="2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247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247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2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14200" y="642600"/>
            <a:ext cx="8715600" cy="42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28960" indent="-22896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660066"/>
                </a:solidFill>
                <a:latin typeface="Comic Sans MS"/>
                <a:ea typeface="Arial"/>
              </a:rPr>
              <a:t>2 – </a:t>
            </a:r>
            <a:r>
              <a:rPr b="1" lang="fr-FR" sz="2000" spc="-1" strike="noStrike" u="sng">
                <a:solidFill>
                  <a:srgbClr val="660066"/>
                </a:solidFill>
                <a:uFillTx/>
                <a:latin typeface="Comic Sans MS"/>
                <a:ea typeface="Arial"/>
              </a:rPr>
              <a:t>CAHIER DES CHARGES PRODUIT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28960" indent="-22896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7030a0"/>
                </a:solidFill>
                <a:latin typeface="Comic Sans MS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28960" indent="-228960"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Le tonneau de contrôle est destiné aux laboratoires de contrôle qualité mais aussi aux évènements promotionnels des marques. Il doit donc répondre à un certain nombre de critères, notamment dans les domaines de l’encombrement et de l’esthétique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28960" indent="-22896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28960" indent="-22896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fr-FR" sz="2000" spc="-1" strike="noStrike">
                <a:solidFill>
                  <a:srgbClr val="7030a0"/>
                </a:solidFill>
                <a:latin typeface="Arial"/>
                <a:ea typeface="Arial"/>
              </a:rPr>
              <a:t>Extrait du cahier des charges produit :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28960" indent="-22896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Perpetua"/>
            </a:endParaRPr>
          </a:p>
          <a:p>
            <a:pPr marL="228960" indent="-22896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fr-FR" sz="2000" spc="-1" strike="noStrike">
                <a:solidFill>
                  <a:srgbClr val="002060"/>
                </a:solidFill>
                <a:latin typeface="Wingdings"/>
                <a:ea typeface="Wingdings"/>
              </a:rPr>
              <a:t></a:t>
            </a:r>
            <a:r>
              <a:rPr b="1" lang="fr-FR" sz="20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fr-FR" sz="2000" spc="-1" strike="noStrike">
                <a:solidFill>
                  <a:srgbClr val="002060"/>
                </a:solidFill>
                <a:latin typeface="Arial"/>
                <a:ea typeface="Arial"/>
              </a:rPr>
              <a:t>Critères </a:t>
            </a:r>
            <a:r>
              <a:rPr b="1" lang="fr-FR" sz="2000" spc="-1" strike="noStrike">
                <a:solidFill>
                  <a:srgbClr val="0070c0"/>
                </a:solidFill>
                <a:latin typeface="Arial"/>
                <a:ea typeface="Arial"/>
              </a:rPr>
              <a:t>d’encombrement </a:t>
            </a:r>
            <a:r>
              <a:rPr b="1" lang="fr-FR" sz="2000" spc="-1" strike="noStrike">
                <a:solidFill>
                  <a:srgbClr val="002060"/>
                </a:solidFill>
                <a:latin typeface="Arial"/>
                <a:ea typeface="Arial"/>
              </a:rPr>
              <a:t>du produit :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28960" indent="-228960"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- Les cotes d’encombrement  et le poids doivent être réduites au maximum pour permettre un transport aisé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28960" indent="-228960"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28960" indent="-22896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28960" indent="-22896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9" name="Picture 1" descr="Pot bouchons métallisés4"/>
          <p:cNvPicPr/>
          <p:nvPr/>
        </p:nvPicPr>
        <p:blipFill>
          <a:blip r:embed="rId1"/>
          <a:stretch/>
        </p:blipFill>
        <p:spPr>
          <a:xfrm>
            <a:off x="3713040" y="4943520"/>
            <a:ext cx="1938600" cy="1347840"/>
          </a:xfrm>
          <a:prstGeom prst="rect">
            <a:avLst/>
          </a:prstGeom>
          <a:ln w="0">
            <a:noFill/>
          </a:ln>
        </p:spPr>
      </p:pic>
      <p:sp>
        <p:nvSpPr>
          <p:cNvPr id="250" name="Rectangle 4"/>
          <p:cNvSpPr/>
          <p:nvPr/>
        </p:nvSpPr>
        <p:spPr>
          <a:xfrm>
            <a:off x="0" y="142920"/>
            <a:ext cx="2786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70c0"/>
                </a:solidFill>
                <a:latin typeface="Comic Sans MS"/>
                <a:ea typeface="Arial"/>
              </a:rPr>
              <a:t>TONNEAU DE CONTROLE QUALIT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lèche droite rayée 5"/>
          <p:cNvSpPr/>
          <p:nvPr/>
        </p:nvSpPr>
        <p:spPr>
          <a:xfrm>
            <a:off x="8286840" y="6357960"/>
            <a:ext cx="571320" cy="285840"/>
          </a:xfrm>
          <a:custGeom>
            <a:avLst/>
            <a:gdLst>
              <a:gd name="textAreaLeft" fmla="*/ 44640 w 571320"/>
              <a:gd name="textAreaRight" fmla="*/ 500040 w 571320"/>
              <a:gd name="textAreaTop" fmla="*/ 71280 h 285840"/>
              <a:gd name="textAreaBottom" fmla="*/ 214560 h 285840"/>
            </a:gdLst>
            <a:ahLst/>
            <a:rect l="textAreaLeft" t="textAreaTop" r="textAreaRight" b="textAreaBottom"/>
            <a:pathLst>
              <a:path w="571500" h="285750">
                <a:moveTo>
                  <a:pt x="0" y="71438"/>
                </a:moveTo>
                <a:lnTo>
                  <a:pt x="8930" y="71438"/>
                </a:lnTo>
                <a:lnTo>
                  <a:pt x="8930" y="214313"/>
                </a:lnTo>
                <a:lnTo>
                  <a:pt x="0" y="214313"/>
                </a:lnTo>
                <a:close/>
                <a:moveTo>
                  <a:pt x="17859" y="71438"/>
                </a:moveTo>
                <a:lnTo>
                  <a:pt x="35719" y="71438"/>
                </a:lnTo>
                <a:lnTo>
                  <a:pt x="35719" y="214313"/>
                </a:lnTo>
                <a:lnTo>
                  <a:pt x="17859" y="214313"/>
                </a:lnTo>
                <a:close/>
                <a:moveTo>
                  <a:pt x="44648" y="71438"/>
                </a:moveTo>
                <a:lnTo>
                  <a:pt x="428625" y="71438"/>
                </a:lnTo>
                <a:lnTo>
                  <a:pt x="428625" y="0"/>
                </a:lnTo>
                <a:lnTo>
                  <a:pt x="571500" y="142875"/>
                </a:lnTo>
                <a:lnTo>
                  <a:pt x="428625" y="285750"/>
                </a:lnTo>
                <a:lnTo>
                  <a:pt x="428625" y="214313"/>
                </a:lnTo>
                <a:lnTo>
                  <a:pt x="44648" y="214313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855d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371160" y="861480"/>
            <a:ext cx="845820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Wingdings"/>
                <a:ea typeface="Wingdings"/>
              </a:rPr>
              <a:t></a:t>
            </a:r>
            <a:r>
              <a:rPr b="1" lang="fr-FR" sz="20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fr-FR" sz="2000" spc="-1" strike="noStrike">
                <a:solidFill>
                  <a:srgbClr val="002060"/>
                </a:solidFill>
                <a:latin typeface="Arial"/>
                <a:ea typeface="Arial"/>
              </a:rPr>
              <a:t>Critères </a:t>
            </a:r>
            <a:r>
              <a:rPr b="1" lang="fr-FR" sz="2000" spc="-1" strike="noStrike">
                <a:solidFill>
                  <a:srgbClr val="0070c0"/>
                </a:solidFill>
                <a:latin typeface="Arial"/>
                <a:ea typeface="Arial"/>
              </a:rPr>
              <a:t>fonctionnels</a:t>
            </a:r>
            <a:r>
              <a:rPr b="1" lang="fr-FR" sz="2000" spc="-1" strike="noStrike">
                <a:solidFill>
                  <a:srgbClr val="002060"/>
                </a:solidFill>
                <a:latin typeface="Arial"/>
                <a:ea typeface="Arial"/>
              </a:rPr>
              <a:t> du produit :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- L’alimentation doit être électrique sur secteur (220V),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- La vitesse de rotation du tonneau doit être de 12 trs/min (+/- 1tr/min),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- Le cycle de contrôle doit être de 10min (+/- 5s),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- La capacité du tonneau doit permettre de contrôler au minimum 50 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échantillons de types bouchons de mascara ou vernis à ongles et 20 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échantillons de type bouchons de pots de crème,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- Le chargement des pièces doit être facilité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Wingdings"/>
                <a:ea typeface="Wingdings"/>
              </a:rPr>
              <a:t></a:t>
            </a:r>
            <a:r>
              <a:rPr b="1" lang="fr-FR" sz="20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fr-FR" sz="2000" spc="-1" strike="noStrike">
                <a:solidFill>
                  <a:srgbClr val="002060"/>
                </a:solidFill>
                <a:latin typeface="Arial"/>
                <a:ea typeface="Arial"/>
              </a:rPr>
              <a:t>Critères </a:t>
            </a:r>
            <a:r>
              <a:rPr b="1" lang="fr-FR" sz="2000" spc="-1" strike="noStrike">
                <a:solidFill>
                  <a:srgbClr val="0070c0"/>
                </a:solidFill>
                <a:latin typeface="Arial"/>
                <a:ea typeface="Arial"/>
              </a:rPr>
              <a:t>esthétiques</a:t>
            </a:r>
            <a:r>
              <a:rPr b="1" lang="fr-FR" sz="2000" spc="-1" strike="noStrike">
                <a:solidFill>
                  <a:srgbClr val="002060"/>
                </a:solidFill>
                <a:latin typeface="Arial"/>
                <a:ea typeface="Arial"/>
              </a:rPr>
              <a:t> du produit :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- L’esthétisme du produit doit respecter les codes esthétiques clients,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- Le produit doit représenter les marques lors des évènements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promotionnels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3" name="Rectangle 4"/>
          <p:cNvSpPr/>
          <p:nvPr/>
        </p:nvSpPr>
        <p:spPr>
          <a:xfrm>
            <a:off x="0" y="142920"/>
            <a:ext cx="2786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70c0"/>
                </a:solidFill>
                <a:latin typeface="Comic Sans MS"/>
                <a:ea typeface="Arial"/>
              </a:rPr>
              <a:t>TONNEAU DE CONTROLE QUALIT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Flèche droite rayée 5"/>
          <p:cNvSpPr/>
          <p:nvPr/>
        </p:nvSpPr>
        <p:spPr>
          <a:xfrm>
            <a:off x="8286840" y="6357960"/>
            <a:ext cx="571320" cy="285840"/>
          </a:xfrm>
          <a:custGeom>
            <a:avLst/>
            <a:gdLst>
              <a:gd name="textAreaLeft" fmla="*/ 44640 w 571320"/>
              <a:gd name="textAreaRight" fmla="*/ 500040 w 571320"/>
              <a:gd name="textAreaTop" fmla="*/ 71280 h 285840"/>
              <a:gd name="textAreaBottom" fmla="*/ 214560 h 285840"/>
            </a:gdLst>
            <a:ahLst/>
            <a:rect l="textAreaLeft" t="textAreaTop" r="textAreaRight" b="textAreaBottom"/>
            <a:pathLst>
              <a:path w="571500" h="285750">
                <a:moveTo>
                  <a:pt x="0" y="71438"/>
                </a:moveTo>
                <a:lnTo>
                  <a:pt x="8930" y="71438"/>
                </a:lnTo>
                <a:lnTo>
                  <a:pt x="8930" y="214313"/>
                </a:lnTo>
                <a:lnTo>
                  <a:pt x="0" y="214313"/>
                </a:lnTo>
                <a:close/>
                <a:moveTo>
                  <a:pt x="17859" y="71438"/>
                </a:moveTo>
                <a:lnTo>
                  <a:pt x="35719" y="71438"/>
                </a:lnTo>
                <a:lnTo>
                  <a:pt x="35719" y="214313"/>
                </a:lnTo>
                <a:lnTo>
                  <a:pt x="17859" y="214313"/>
                </a:lnTo>
                <a:close/>
                <a:moveTo>
                  <a:pt x="44648" y="71438"/>
                </a:moveTo>
                <a:lnTo>
                  <a:pt x="428625" y="71438"/>
                </a:lnTo>
                <a:lnTo>
                  <a:pt x="428625" y="0"/>
                </a:lnTo>
                <a:lnTo>
                  <a:pt x="571500" y="142875"/>
                </a:lnTo>
                <a:lnTo>
                  <a:pt x="428625" y="285750"/>
                </a:lnTo>
                <a:lnTo>
                  <a:pt x="428625" y="214313"/>
                </a:lnTo>
                <a:lnTo>
                  <a:pt x="44648" y="214313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855d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6332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660066"/>
                </a:solidFill>
                <a:latin typeface="Comic Sans MS"/>
                <a:ea typeface="Arial"/>
              </a:rPr>
              <a:t>3 – </a:t>
            </a:r>
            <a:r>
              <a:rPr b="1" lang="fr-FR" sz="2000" spc="-1" strike="noStrike" u="sng">
                <a:solidFill>
                  <a:srgbClr val="660066"/>
                </a:solidFill>
                <a:uFillTx/>
                <a:latin typeface="Comic Sans MS"/>
                <a:ea typeface="Arial"/>
              </a:rPr>
              <a:t>ANALYSE FONCTIONNELLE</a:t>
            </a:r>
            <a:endParaRPr b="0" lang="en-US" sz="2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0" y="142920"/>
            <a:ext cx="2786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70c0"/>
                </a:solidFill>
                <a:latin typeface="Comic Sans MS"/>
                <a:ea typeface="Arial"/>
              </a:rPr>
              <a:t>TONNEAU DE CONTROLE QUALIT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Group 66"/>
          <p:cNvGrpSpPr/>
          <p:nvPr/>
        </p:nvGrpSpPr>
        <p:grpSpPr>
          <a:xfrm>
            <a:off x="2050920" y="981000"/>
            <a:ext cx="5327640" cy="2952720"/>
            <a:chOff x="2050920" y="981000"/>
            <a:chExt cx="5327640" cy="2952720"/>
          </a:xfrm>
        </p:grpSpPr>
        <p:sp>
          <p:nvSpPr>
            <p:cNvPr id="258" name="Text Box 7"/>
            <p:cNvSpPr/>
            <p:nvPr/>
          </p:nvSpPr>
          <p:spPr>
            <a:xfrm>
              <a:off x="5684760" y="2514600"/>
              <a:ext cx="557280" cy="343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FC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Text Box 9"/>
            <p:cNvSpPr/>
            <p:nvPr/>
          </p:nvSpPr>
          <p:spPr>
            <a:xfrm>
              <a:off x="5799240" y="1995480"/>
              <a:ext cx="557280" cy="343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FC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Text Box 10"/>
            <p:cNvSpPr/>
            <p:nvPr/>
          </p:nvSpPr>
          <p:spPr>
            <a:xfrm>
              <a:off x="3751200" y="2943360"/>
              <a:ext cx="557280" cy="342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FC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Text Box 11"/>
            <p:cNvSpPr/>
            <p:nvPr/>
          </p:nvSpPr>
          <p:spPr>
            <a:xfrm>
              <a:off x="3330720" y="2327400"/>
              <a:ext cx="556920" cy="342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FC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Oval 12"/>
            <p:cNvSpPr/>
            <p:nvPr/>
          </p:nvSpPr>
          <p:spPr>
            <a:xfrm>
              <a:off x="3873600" y="2141640"/>
              <a:ext cx="1803240" cy="819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imes New Roman"/>
                </a:rPr>
                <a:t>Tonneau de Contrôle qualité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Oval 13"/>
            <p:cNvSpPr/>
            <p:nvPr/>
          </p:nvSpPr>
          <p:spPr>
            <a:xfrm>
              <a:off x="6173640" y="2252520"/>
              <a:ext cx="1204920" cy="520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imes New Roman"/>
                </a:rPr>
                <a:t>Esthétiqu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Oval 14"/>
            <p:cNvSpPr/>
            <p:nvPr/>
          </p:nvSpPr>
          <p:spPr>
            <a:xfrm>
              <a:off x="2050920" y="2230560"/>
              <a:ext cx="1327320" cy="563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imes New Roman"/>
                </a:rPr>
                <a:t>Energi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Oval 16"/>
            <p:cNvSpPr/>
            <p:nvPr/>
          </p:nvSpPr>
          <p:spPr>
            <a:xfrm>
              <a:off x="5140440" y="981000"/>
              <a:ext cx="1336680" cy="851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imes New Roman"/>
                </a:rPr>
                <a:t>Pièces métallisé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Oval 17"/>
            <p:cNvSpPr/>
            <p:nvPr/>
          </p:nvSpPr>
          <p:spPr>
            <a:xfrm>
              <a:off x="2728800" y="1136520"/>
              <a:ext cx="1408320" cy="596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imes New Roman"/>
                </a:rPr>
                <a:t>Utilisateu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Oval 18"/>
            <p:cNvSpPr/>
            <p:nvPr/>
          </p:nvSpPr>
          <p:spPr>
            <a:xfrm>
              <a:off x="2811600" y="3259080"/>
              <a:ext cx="1427040" cy="674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imes New Roman"/>
                </a:rPr>
                <a:t>Poids et dimensio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19"/>
            <p:cNvSpPr/>
            <p:nvPr/>
          </p:nvSpPr>
          <p:spPr>
            <a:xfrm>
              <a:off x="3962520" y="1628640"/>
              <a:ext cx="1612800" cy="646200"/>
            </a:xfrm>
            <a:custGeom>
              <a:avLst/>
              <a:gdLst>
                <a:gd name="textAreaLeft" fmla="*/ 0 w 1612800"/>
                <a:gd name="textAreaRight" fmla="*/ 1613160 w 1612800"/>
                <a:gd name="textAreaTop" fmla="*/ 0 h 646200"/>
                <a:gd name="textAreaBottom" fmla="*/ 646560 h 646200"/>
              </a:gdLst>
              <a:ahLst/>
              <a:rect l="textAreaLeft" t="textAreaTop" r="textAreaRight" b="textAreaBottom"/>
              <a:pathLst>
                <a:path w="2415" h="300">
                  <a:moveTo>
                    <a:pt x="0" y="0"/>
                  </a:moveTo>
                  <a:cubicBezTo>
                    <a:pt x="406" y="135"/>
                    <a:pt x="813" y="270"/>
                    <a:pt x="1215" y="285"/>
                  </a:cubicBezTo>
                  <a:cubicBezTo>
                    <a:pt x="1617" y="300"/>
                    <a:pt x="2016" y="195"/>
                    <a:pt x="2415" y="9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Text Box 20"/>
            <p:cNvSpPr/>
            <p:nvPr/>
          </p:nvSpPr>
          <p:spPr>
            <a:xfrm>
              <a:off x="4562640" y="1755720"/>
              <a:ext cx="577800" cy="343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300" spc="-1" strike="noStrike">
                  <a:solidFill>
                    <a:srgbClr val="000000"/>
                  </a:solidFill>
                  <a:latin typeface="Times New Roman"/>
                </a:rPr>
                <a:t>FP1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21"/>
            <p:cNvSpPr/>
            <p:nvPr/>
          </p:nvSpPr>
          <p:spPr>
            <a:xfrm>
              <a:off x="3252960" y="2670120"/>
              <a:ext cx="671400" cy="68400"/>
            </a:xfrm>
            <a:custGeom>
              <a:avLst/>
              <a:gdLst>
                <a:gd name="textAreaLeft" fmla="*/ 0 w 671400"/>
                <a:gd name="textAreaRight" fmla="*/ 671760 w 67140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1335" h="270">
                  <a:moveTo>
                    <a:pt x="0" y="0"/>
                  </a:moveTo>
                  <a:cubicBezTo>
                    <a:pt x="196" y="135"/>
                    <a:pt x="393" y="270"/>
                    <a:pt x="615" y="270"/>
                  </a:cubicBezTo>
                  <a:cubicBezTo>
                    <a:pt x="837" y="270"/>
                    <a:pt x="1175" y="45"/>
                    <a:pt x="1335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22"/>
            <p:cNvSpPr/>
            <p:nvPr/>
          </p:nvSpPr>
          <p:spPr>
            <a:xfrm>
              <a:off x="5621400" y="2711520"/>
              <a:ext cx="766800" cy="101520"/>
            </a:xfrm>
            <a:custGeom>
              <a:avLst/>
              <a:gdLst>
                <a:gd name="textAreaLeft" fmla="*/ 0 w 766800"/>
                <a:gd name="textAreaRight" fmla="*/ 767160 w 76680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1335" h="270">
                  <a:moveTo>
                    <a:pt x="0" y="0"/>
                  </a:moveTo>
                  <a:cubicBezTo>
                    <a:pt x="196" y="135"/>
                    <a:pt x="393" y="270"/>
                    <a:pt x="615" y="270"/>
                  </a:cubicBezTo>
                  <a:cubicBezTo>
                    <a:pt x="837" y="270"/>
                    <a:pt x="1175" y="45"/>
                    <a:pt x="1335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23"/>
            <p:cNvSpPr/>
            <p:nvPr/>
          </p:nvSpPr>
          <p:spPr>
            <a:xfrm>
              <a:off x="4145040" y="2851200"/>
              <a:ext cx="85680" cy="57132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571320"/>
                <a:gd name="textAreaBottom" fmla="*/ 571680 h 571320"/>
              </a:gdLst>
              <a:ahLst/>
              <a:rect l="textAreaLeft" t="textAreaTop" r="textAreaRight" b="textAreaBottom"/>
              <a:pathLst>
                <a:path w="303" h="1077">
                  <a:moveTo>
                    <a:pt x="13" y="0"/>
                  </a:moveTo>
                  <a:cubicBezTo>
                    <a:pt x="158" y="173"/>
                    <a:pt x="303" y="347"/>
                    <a:pt x="301" y="526"/>
                  </a:cubicBezTo>
                  <a:cubicBezTo>
                    <a:pt x="299" y="705"/>
                    <a:pt x="50" y="987"/>
                    <a:pt x="0" y="107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24"/>
            <p:cNvSpPr/>
            <p:nvPr/>
          </p:nvSpPr>
          <p:spPr>
            <a:xfrm flipH="1">
              <a:off x="5618880" y="1819440"/>
              <a:ext cx="174600" cy="571320"/>
            </a:xfrm>
            <a:custGeom>
              <a:avLst/>
              <a:gdLst>
                <a:gd name="textAreaLeft" fmla="*/ -360 w 174600"/>
                <a:gd name="textAreaRight" fmla="*/ 174600 w 174600"/>
                <a:gd name="textAreaTop" fmla="*/ 0 h 571320"/>
                <a:gd name="textAreaBottom" fmla="*/ 571680 h 571320"/>
              </a:gdLst>
              <a:ahLst/>
              <a:rect l="textAreaLeft" t="textAreaTop" r="textAreaRight" b="textAreaBottom"/>
              <a:pathLst>
                <a:path w="213" h="814">
                  <a:moveTo>
                    <a:pt x="213" y="0"/>
                  </a:moveTo>
                  <a:cubicBezTo>
                    <a:pt x="106" y="145"/>
                    <a:pt x="0" y="290"/>
                    <a:pt x="0" y="426"/>
                  </a:cubicBezTo>
                  <a:cubicBezTo>
                    <a:pt x="0" y="562"/>
                    <a:pt x="177" y="753"/>
                    <a:pt x="213" y="81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74" name=""/>
          <p:cNvGraphicFramePr/>
          <p:nvPr/>
        </p:nvGraphicFramePr>
        <p:xfrm>
          <a:off x="900000" y="4437000"/>
          <a:ext cx="7772400" cy="1676520"/>
        </p:xfrm>
        <a:graphic>
          <a:graphicData uri="http://schemas.openxmlformats.org/drawingml/2006/table">
            <a:tbl>
              <a:tblPr/>
              <a:tblGrid>
                <a:gridCol w="863640"/>
                <a:gridCol w="69087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P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mettre à l’utilisateur de contrôler la tenue de la métallisation des piè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nctionner sur l’énergie électrique du sect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mettre de transporter facilement le produ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oir une capacité minimum pour chaque type de piè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C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’adapter au code esthétique des client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5" name="Flèche droite rayée 5"/>
          <p:cNvSpPr/>
          <p:nvPr/>
        </p:nvSpPr>
        <p:spPr>
          <a:xfrm>
            <a:off x="8286840" y="6357960"/>
            <a:ext cx="571320" cy="285840"/>
          </a:xfrm>
          <a:custGeom>
            <a:avLst/>
            <a:gdLst>
              <a:gd name="textAreaLeft" fmla="*/ 44640 w 571320"/>
              <a:gd name="textAreaRight" fmla="*/ 500040 w 571320"/>
              <a:gd name="textAreaTop" fmla="*/ 71280 h 285840"/>
              <a:gd name="textAreaBottom" fmla="*/ 214560 h 285840"/>
            </a:gdLst>
            <a:ahLst/>
            <a:rect l="textAreaLeft" t="textAreaTop" r="textAreaRight" b="textAreaBottom"/>
            <a:pathLst>
              <a:path w="571500" h="285750">
                <a:moveTo>
                  <a:pt x="0" y="71438"/>
                </a:moveTo>
                <a:lnTo>
                  <a:pt x="8930" y="71438"/>
                </a:lnTo>
                <a:lnTo>
                  <a:pt x="8930" y="214313"/>
                </a:lnTo>
                <a:lnTo>
                  <a:pt x="0" y="214313"/>
                </a:lnTo>
                <a:close/>
                <a:moveTo>
                  <a:pt x="17859" y="71438"/>
                </a:moveTo>
                <a:lnTo>
                  <a:pt x="35719" y="71438"/>
                </a:lnTo>
                <a:lnTo>
                  <a:pt x="35719" y="214313"/>
                </a:lnTo>
                <a:lnTo>
                  <a:pt x="17859" y="214313"/>
                </a:lnTo>
                <a:close/>
                <a:moveTo>
                  <a:pt x="44648" y="71438"/>
                </a:moveTo>
                <a:lnTo>
                  <a:pt x="428625" y="71438"/>
                </a:lnTo>
                <a:lnTo>
                  <a:pt x="428625" y="0"/>
                </a:lnTo>
                <a:lnTo>
                  <a:pt x="571500" y="142875"/>
                </a:lnTo>
                <a:lnTo>
                  <a:pt x="428625" y="285750"/>
                </a:lnTo>
                <a:lnTo>
                  <a:pt x="428625" y="214313"/>
                </a:lnTo>
                <a:lnTo>
                  <a:pt x="44648" y="214313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855d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 txBox="1"/>
          <p:nvPr/>
        </p:nvSpPr>
        <p:spPr>
          <a:xfrm>
            <a:off x="142920" y="571320"/>
            <a:ext cx="8786880" cy="192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660066"/>
                </a:solidFill>
                <a:latin typeface="Comic Sans MS"/>
              </a:rPr>
              <a:t>4 – </a:t>
            </a:r>
            <a:r>
              <a:rPr b="1" lang="fr-FR" sz="2000" spc="-1" strike="noStrike" u="sng">
                <a:solidFill>
                  <a:srgbClr val="660066"/>
                </a:solidFill>
                <a:uFillTx/>
                <a:latin typeface="Comic Sans MS"/>
              </a:rPr>
              <a:t>FONCTIONNEMENT DU PRODUIT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50920" indent="-2509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Perpetua"/>
              </a:rPr>
              <a:t> </a:t>
            </a:r>
            <a:r>
              <a:rPr b="0" lang="fr-FR" sz="2600" spc="-1" strike="noStrike">
                <a:solidFill>
                  <a:srgbClr val="000000"/>
                </a:solidFill>
                <a:latin typeface="Perpetu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0920" indent="-250920"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Le moteur électrique entraîne le réducteur qui transmet la vitesse de rotation au rouleau moteur par l’intermédiaire de l’arbre de transmission et de la courroie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50920" indent="-250920"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50920" indent="-25092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7" name="Rectangle 4"/>
          <p:cNvSpPr/>
          <p:nvPr/>
        </p:nvSpPr>
        <p:spPr>
          <a:xfrm>
            <a:off x="0" y="142920"/>
            <a:ext cx="2786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70c0"/>
                </a:solidFill>
                <a:latin typeface="Comic Sans MS"/>
                <a:ea typeface="Arial"/>
              </a:rPr>
              <a:t>TONNEAU DE CONTROLE QUALIT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Flèche droite rayée 5"/>
          <p:cNvSpPr/>
          <p:nvPr/>
        </p:nvSpPr>
        <p:spPr>
          <a:xfrm>
            <a:off x="8358120" y="6357960"/>
            <a:ext cx="571680" cy="285840"/>
          </a:xfrm>
          <a:custGeom>
            <a:avLst/>
            <a:gdLst>
              <a:gd name="textAreaLeft" fmla="*/ 44640 w 571680"/>
              <a:gd name="textAreaRight" fmla="*/ 500400 w 571680"/>
              <a:gd name="textAreaTop" fmla="*/ 71280 h 285840"/>
              <a:gd name="textAreaBottom" fmla="*/ 214560 h 285840"/>
            </a:gdLst>
            <a:ahLst/>
            <a:rect l="textAreaLeft" t="textAreaTop" r="textAreaRight" b="textAreaBottom"/>
            <a:pathLst>
              <a:path w="571500" h="285750">
                <a:moveTo>
                  <a:pt x="0" y="71438"/>
                </a:moveTo>
                <a:lnTo>
                  <a:pt x="8930" y="71438"/>
                </a:lnTo>
                <a:lnTo>
                  <a:pt x="8930" y="214313"/>
                </a:lnTo>
                <a:lnTo>
                  <a:pt x="0" y="214313"/>
                </a:lnTo>
                <a:close/>
                <a:moveTo>
                  <a:pt x="17859" y="71438"/>
                </a:moveTo>
                <a:lnTo>
                  <a:pt x="35719" y="71438"/>
                </a:lnTo>
                <a:lnTo>
                  <a:pt x="35719" y="214313"/>
                </a:lnTo>
                <a:lnTo>
                  <a:pt x="17859" y="214313"/>
                </a:lnTo>
                <a:close/>
                <a:moveTo>
                  <a:pt x="44648" y="71438"/>
                </a:moveTo>
                <a:lnTo>
                  <a:pt x="428625" y="71438"/>
                </a:lnTo>
                <a:lnTo>
                  <a:pt x="428625" y="0"/>
                </a:lnTo>
                <a:lnTo>
                  <a:pt x="571500" y="142875"/>
                </a:lnTo>
                <a:lnTo>
                  <a:pt x="428625" y="285750"/>
                </a:lnTo>
                <a:lnTo>
                  <a:pt x="428625" y="214313"/>
                </a:lnTo>
                <a:lnTo>
                  <a:pt x="44648" y="214313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855d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Group 13"/>
          <p:cNvGrpSpPr/>
          <p:nvPr/>
        </p:nvGrpSpPr>
        <p:grpSpPr>
          <a:xfrm>
            <a:off x="382680" y="2565360"/>
            <a:ext cx="7970760" cy="3816360"/>
            <a:chOff x="382680" y="2565360"/>
            <a:chExt cx="7970760" cy="3816360"/>
          </a:xfrm>
        </p:grpSpPr>
        <p:pic>
          <p:nvPicPr>
            <p:cNvPr id="280" name="Picture 8" descr="Schéma11"/>
            <p:cNvPicPr/>
            <p:nvPr/>
          </p:nvPicPr>
          <p:blipFill>
            <a:blip r:embed="rId1"/>
            <a:stretch/>
          </p:blipFill>
          <p:spPr>
            <a:xfrm>
              <a:off x="1908000" y="2708280"/>
              <a:ext cx="5361120" cy="343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AutoShape 9"/>
            <p:cNvSpPr/>
            <p:nvPr/>
          </p:nvSpPr>
          <p:spPr>
            <a:xfrm>
              <a:off x="6934320" y="5877000"/>
              <a:ext cx="1009440" cy="287280"/>
            </a:xfrm>
            <a:prstGeom prst="borderCallout2">
              <a:avLst>
                <a:gd name="adj1" fmla="val 18750"/>
                <a:gd name="adj2" fmla="val -8333"/>
                <a:gd name="adj3" fmla="val 39777"/>
                <a:gd name="adj4" fmla="val -44180"/>
                <a:gd name="adj5" fmla="val -336462"/>
                <a:gd name="adj6" fmla="val -178143"/>
              </a:avLst>
            </a:pr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Réducteu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AutoShape 10"/>
            <p:cNvSpPr/>
            <p:nvPr/>
          </p:nvSpPr>
          <p:spPr>
            <a:xfrm>
              <a:off x="6359400" y="2637000"/>
              <a:ext cx="1994040" cy="647640"/>
            </a:xfrm>
            <a:prstGeom prst="borderCallout2">
              <a:avLst>
                <a:gd name="adj1" fmla="val 18750"/>
                <a:gd name="adj2" fmla="val -8333"/>
                <a:gd name="adj3" fmla="val 17648"/>
                <a:gd name="adj4" fmla="val -12180"/>
                <a:gd name="adj5" fmla="val 174018"/>
                <a:gd name="adj6" fmla="val -42435"/>
              </a:avLst>
            </a:pr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Moteur électriqu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Fréquence de rotation :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Environ : 1500 trs/m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AutoShape 11"/>
            <p:cNvSpPr/>
            <p:nvPr/>
          </p:nvSpPr>
          <p:spPr>
            <a:xfrm>
              <a:off x="382680" y="2637000"/>
              <a:ext cx="1898640" cy="647640"/>
            </a:xfrm>
            <a:prstGeom prst="borderCallout2">
              <a:avLst>
                <a:gd name="adj1" fmla="val 18750"/>
                <a:gd name="adj2" fmla="val -8333"/>
                <a:gd name="adj3" fmla="val 17648"/>
                <a:gd name="adj4" fmla="val 116305"/>
                <a:gd name="adj5" fmla="val 126472"/>
                <a:gd name="adj6" fmla="val 160703"/>
              </a:avLst>
            </a:pr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Rouleau moteu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Fréquence de rotation :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Environ : 75 trs/m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AutoShape 12"/>
            <p:cNvSpPr/>
            <p:nvPr/>
          </p:nvSpPr>
          <p:spPr>
            <a:xfrm>
              <a:off x="3851280" y="2565360"/>
              <a:ext cx="914400" cy="287280"/>
            </a:xfrm>
            <a:prstGeom prst="borderCallout2">
              <a:avLst>
                <a:gd name="adj1" fmla="val 18750"/>
                <a:gd name="adj2" fmla="val -8333"/>
                <a:gd name="adj3" fmla="val 39777"/>
                <a:gd name="adj4" fmla="val 114583"/>
                <a:gd name="adj5" fmla="val 456907"/>
                <a:gd name="adj6" fmla="val 136981"/>
              </a:avLst>
            </a:pr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Courroi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AutoShape 13"/>
            <p:cNvSpPr/>
            <p:nvPr/>
          </p:nvSpPr>
          <p:spPr>
            <a:xfrm>
              <a:off x="2916360" y="5950080"/>
              <a:ext cx="1152360" cy="431640"/>
            </a:xfrm>
            <a:prstGeom prst="borderCallout2">
              <a:avLst>
                <a:gd name="adj1" fmla="val 18750"/>
                <a:gd name="adj2" fmla="val -8333"/>
                <a:gd name="adj3" fmla="val 26472"/>
                <a:gd name="adj4" fmla="val 117907"/>
                <a:gd name="adj5" fmla="val -274634"/>
                <a:gd name="adj6" fmla="val 159226"/>
              </a:avLst>
            </a:pr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Arbre de transmiss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AutoShape 14"/>
            <p:cNvSpPr/>
            <p:nvPr/>
          </p:nvSpPr>
          <p:spPr>
            <a:xfrm>
              <a:off x="992160" y="5445000"/>
              <a:ext cx="1254240" cy="287640"/>
            </a:xfrm>
            <a:prstGeom prst="borderCallout2">
              <a:avLst>
                <a:gd name="adj1" fmla="val 18750"/>
                <a:gd name="adj2" fmla="val -8333"/>
                <a:gd name="adj3" fmla="val 39777"/>
                <a:gd name="adj4" fmla="val 120634"/>
                <a:gd name="adj5" fmla="val -429282"/>
                <a:gd name="adj6" fmla="val 173671"/>
              </a:avLst>
            </a:pr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Rouleau lib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285840" y="571680"/>
            <a:ext cx="8400960" cy="17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Le tonneau est simplement posé sur les joints des deux rouleaux. Il est entraîné à une fréquence de rotation de 12 trs/min (+/-1tr/min)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8" name="Rectangle 4"/>
          <p:cNvSpPr/>
          <p:nvPr/>
        </p:nvSpPr>
        <p:spPr>
          <a:xfrm>
            <a:off x="0" y="142920"/>
            <a:ext cx="2786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70c0"/>
                </a:solidFill>
                <a:latin typeface="Comic Sans MS"/>
                <a:ea typeface="Arial"/>
              </a:rPr>
              <a:t>TONNEAU DE CONTROLE QUALIT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Flèche droite rayée 5"/>
          <p:cNvSpPr/>
          <p:nvPr/>
        </p:nvSpPr>
        <p:spPr>
          <a:xfrm>
            <a:off x="8286840" y="6357960"/>
            <a:ext cx="571320" cy="285840"/>
          </a:xfrm>
          <a:custGeom>
            <a:avLst/>
            <a:gdLst>
              <a:gd name="textAreaLeft" fmla="*/ 44640 w 571320"/>
              <a:gd name="textAreaRight" fmla="*/ 500040 w 571320"/>
              <a:gd name="textAreaTop" fmla="*/ 71280 h 285840"/>
              <a:gd name="textAreaBottom" fmla="*/ 214560 h 285840"/>
            </a:gdLst>
            <a:ahLst/>
            <a:rect l="textAreaLeft" t="textAreaTop" r="textAreaRight" b="textAreaBottom"/>
            <a:pathLst>
              <a:path w="571500" h="285750">
                <a:moveTo>
                  <a:pt x="0" y="71438"/>
                </a:moveTo>
                <a:lnTo>
                  <a:pt x="8930" y="71438"/>
                </a:lnTo>
                <a:lnTo>
                  <a:pt x="8930" y="214313"/>
                </a:lnTo>
                <a:lnTo>
                  <a:pt x="0" y="214313"/>
                </a:lnTo>
                <a:close/>
                <a:moveTo>
                  <a:pt x="17859" y="71438"/>
                </a:moveTo>
                <a:lnTo>
                  <a:pt x="35719" y="71438"/>
                </a:lnTo>
                <a:lnTo>
                  <a:pt x="35719" y="214313"/>
                </a:lnTo>
                <a:lnTo>
                  <a:pt x="17859" y="214313"/>
                </a:lnTo>
                <a:close/>
                <a:moveTo>
                  <a:pt x="44648" y="71438"/>
                </a:moveTo>
                <a:lnTo>
                  <a:pt x="428625" y="71438"/>
                </a:lnTo>
                <a:lnTo>
                  <a:pt x="428625" y="0"/>
                </a:lnTo>
                <a:lnTo>
                  <a:pt x="571500" y="142875"/>
                </a:lnTo>
                <a:lnTo>
                  <a:pt x="428625" y="285750"/>
                </a:lnTo>
                <a:lnTo>
                  <a:pt x="428625" y="214313"/>
                </a:lnTo>
                <a:lnTo>
                  <a:pt x="44648" y="214313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855d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0" name="Group 9"/>
          <p:cNvGrpSpPr/>
          <p:nvPr/>
        </p:nvGrpSpPr>
        <p:grpSpPr>
          <a:xfrm>
            <a:off x="1403280" y="2349360"/>
            <a:ext cx="6864480" cy="3735360"/>
            <a:chOff x="1403280" y="2349360"/>
            <a:chExt cx="6864480" cy="3735360"/>
          </a:xfrm>
        </p:grpSpPr>
        <p:pic>
          <p:nvPicPr>
            <p:cNvPr id="291" name="Picture 8" descr="Tonneau_Controle"/>
            <p:cNvPicPr/>
            <p:nvPr/>
          </p:nvPicPr>
          <p:blipFill>
            <a:blip r:embed="rId1"/>
            <a:stretch/>
          </p:blipFill>
          <p:spPr>
            <a:xfrm>
              <a:off x="1403280" y="2349360"/>
              <a:ext cx="5551560" cy="373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AutoShape 9"/>
            <p:cNvSpPr/>
            <p:nvPr/>
          </p:nvSpPr>
          <p:spPr>
            <a:xfrm>
              <a:off x="1908000" y="5734080"/>
              <a:ext cx="595440" cy="287280"/>
            </a:xfrm>
            <a:prstGeom prst="borderCallout2">
              <a:avLst>
                <a:gd name="adj1" fmla="val 18750"/>
                <a:gd name="adj2" fmla="val -8333"/>
                <a:gd name="adj3" fmla="val 39777"/>
                <a:gd name="adj4" fmla="val 173601"/>
                <a:gd name="adj5" fmla="val -261879"/>
                <a:gd name="adj6" fmla="val 396000"/>
              </a:avLst>
            </a:pr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Joi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AutoShape 10"/>
            <p:cNvSpPr/>
            <p:nvPr/>
          </p:nvSpPr>
          <p:spPr>
            <a:xfrm>
              <a:off x="6300720" y="2565360"/>
              <a:ext cx="1967040" cy="647640"/>
            </a:xfrm>
            <a:prstGeom prst="borderCallout2">
              <a:avLst>
                <a:gd name="adj1" fmla="val 18750"/>
                <a:gd name="adj2" fmla="val -8333"/>
                <a:gd name="adj3" fmla="val 17648"/>
                <a:gd name="adj4" fmla="val -21550"/>
                <a:gd name="adj5" fmla="val 134805"/>
                <a:gd name="adj6" fmla="val -86037"/>
              </a:avLst>
            </a:pr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Tonnea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Fréquence de rotation 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12 trs/min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7T09:38:55Z</dcterms:created>
  <dc:creator> </dc:creator>
  <dc:description/>
  <dc:language>en-US</dc:language>
  <cp:lastModifiedBy>stagiaire</cp:lastModifiedBy>
  <dcterms:modified xsi:type="dcterms:W3CDTF">2018-01-25T14:45:22Z</dcterms:modified>
  <cp:revision>42</cp:revision>
  <dc:subject/>
  <dc:title>Diapositive 1</dc:title>
</cp:coreProperties>
</file>